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242-98F6-4D03-B033-8B16A3B2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907-310D-4542-8BB8-59FF90FC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F0B-23F0-4186-9489-8356035A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13C-2391-4C31-AD8B-8999C069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948A-F2F7-4D5C-880F-C49124E0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75E-87DA-4A5E-BB1D-DED51702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DA50-CE4A-4E33-A82B-A5C17DE5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0B1-6865-4492-9627-0B713568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A93E-EA3F-406F-B379-41256B84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199-4118-4AA4-9B44-FDECEE78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FD1F-2FC4-49FB-9C1E-255F3BDB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7517-8940-4E8E-A703-E663EE04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618B-936E-4564-BFF9-075DAA5D3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2319120" cy="258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95480" y="4191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st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7T16:05:24Z</dcterms:created>
  <dc:creator>Notebook User</dc:creator>
  <dc:description/>
  <dc:language>en-US</dc:language>
  <cp:lastModifiedBy>Notebook User</cp:lastModifiedBy>
  <dcterms:modified xsi:type="dcterms:W3CDTF">1999-09-07T16:12:07Z</dcterms:modified>
  <cp:revision>1</cp:revision>
  <dc:subject/>
  <dc:title>No Slide Title</dc:title>
</cp:coreProperties>
</file>