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DB96-45B6-48DA-AAFC-4EB16EC9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A08-46DE-41D6-9A4D-9361FF54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AAE-C508-41B8-8D7D-522B1E05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F130-E315-4327-8407-AB67B149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1E11-7E66-4340-BDB3-7557821C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EFD-36D4-4732-B14F-5C0FAD56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35F1-E822-4ED5-93C1-D2BEEF5B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9E1-4DB8-4B44-B5F1-2601D2D8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2C0-6A5D-4A14-95A7-A8307C7B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CCB-105C-440A-8C49-315B41A0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4EC7-723F-453F-A25A-4FCAB35D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DD9F-53F1-48BD-AEF0-B804FE3C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F6C5-F5CF-436A-8816-9EAA73E99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apunta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5029200"/>
            <a:ext cx="7543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el,   Milagros,     Brunella,     Caridad,  Silvana,  Roc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2T18:03:14Z</dcterms:created>
  <dc:creator>Notebook User</dc:creator>
  <dc:description/>
  <dc:language>en-US</dc:language>
  <cp:lastModifiedBy>Notebook User</cp:lastModifiedBy>
  <dcterms:modified xsi:type="dcterms:W3CDTF">1999-05-12T18:08:07Z</dcterms:modified>
  <cp:revision>2</cp:revision>
  <dc:subject/>
  <dc:title>No Slide Title</dc:title>
</cp:coreProperties>
</file>