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6E0-7BC0-44E8-A073-D53FC3D5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E40-F787-49CB-94A0-39E49186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CD2-DFC8-4F55-81CC-07D3F0608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3D0-DD29-482B-876F-B8418568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EE17-EE0B-41C8-8EE5-56839B0A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A6FE-0482-4725-B2EE-6FF470A1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CE5E-3919-4BB6-9FB2-A8D1C9AE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EECA-F412-43F4-AA5A-BFFA659D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5CF3-0D8C-4F93-B7C5-72A8E1BE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EB1-E1E4-42F4-B32E-7E212C2E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376-FA35-449F-A98D-E9FCB470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039A-280A-4211-BDE5-FFF43874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5EE4-6D7C-4002-90EF-86F96A221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laya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534520" cy="5257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0" y="5473800"/>
            <a:ext cx="73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idad, Mauricio, Roc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ío, Silvana, Paúl, Brunella, Marcelo, Milag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1T17:20:05Z</dcterms:created>
  <dc:creator>Notebook User</dc:creator>
  <dc:description/>
  <dc:language>en-US</dc:language>
  <cp:lastModifiedBy>Notebook User</cp:lastModifiedBy>
  <dcterms:modified xsi:type="dcterms:W3CDTF">1999-05-11T17:26:43Z</dcterms:modified>
  <cp:revision>3</cp:revision>
  <dc:subject/>
  <dc:title>No Slide Title</dc:title>
</cp:coreProperties>
</file>